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5414-5D20-4AAE-A073-ED26303D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6999-4ADB-44F1-BEDC-75EF5D93E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400-2B95-4226-84AE-34B4ADDF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91C-144D-4F28-B52F-12A8219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CD1-9BED-4EF3-9B50-FD13ABF2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0A7-E00F-453D-82B1-CFF1ADEA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461-796A-44A7-99B5-BB38048B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8AF-BDE6-4DA1-8C02-8E5CDE91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21E-58DC-438E-A16D-3789CDED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B4E-513C-46B2-9A6B-DC73C91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38A-BCB1-48E9-B7E7-E5C599B1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513-3C9C-463B-8C0B-C5DC082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0BF-0668-4244-8C1E-543A4C8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AB1-F9E2-4D1C-8746-22FB04D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461-7226-4BA3-8F2A-B47E8ECA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3T14:57:44Z</dcterms:modified>
  <cp:revision>105</cp:revision>
  <dc:subject/>
  <dc:title>Profile</dc:title>
</cp:coreProperties>
</file>